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B512-F6A5-48F8-AEC9-700DC874652E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A8C3-5C86-4703-ABF3-732E038EEC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a découverte de 10 logiciels utiles au quotidien du médec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435-C4C3-4B0B-96C8-22301F1C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C47-FA84-4C11-A16E-96E72FD7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48B-45F2-4127-A0BA-D216F237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552-EA0E-4C20-AA7F-8EF3CEC7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DE71-33AD-4B53-94DF-2D6A44A0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367B-C561-4EC7-9D98-BE27A749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994D-B839-4B98-A46F-A5D27A00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39F5-1422-4B05-AB38-949EE2DC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8278-D78D-4E0A-9F84-D93C01A5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ACB6-6243-4201-94CB-D420E984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95CC-DB46-4060-B64D-70C32BF5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09A-7134-4603-A61A-6D37C5CA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5A6E-B038-4A53-B77C-C738F1CC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5546-3143-4330-B53D-A47465B0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F85B-FBE1-4E98-B0F0-DECD7EFD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270E-E70A-4AA9-BE7B-D4F5F050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D1B8-A1F3-4142-94C7-E6C701F1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0EF-F227-412A-8156-D0228B84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F52-7EB5-4B36-B02B-748B23B3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FC7-08D3-457A-BA91-25CDED51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9CF-E2B9-4F9B-B88A-88417518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044-75B7-446D-8E9E-51875DE2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1A3-D323-496D-9E45-47743D4B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5D6-E1AE-4FA9-93AC-AB65E56F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A44C-A767-49FD-90BA-92D9C217EDF7}" type="datetime">
              <a:rPr b="0" lang="fr-FR" sz="1400" spc="-1" strike="noStrike">
                <a:solidFill>
                  <a:srgbClr val="009999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C2FA-68C3-4ADE-AACC-4556B3925DF7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7A9D-6E9F-4529-A3F0-29819FA8F954}" type="datetime">
              <a:rPr b="0" lang="fr-FR" sz="1400" spc="-1" strike="noStrike">
                <a:solidFill>
                  <a:srgbClr val="009999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EA1E-C0B6-4BCC-A243-91DE04E456E2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octeurw.com/" TargetMode="External"/><Relationship Id="rId2" Type="http://schemas.openxmlformats.org/officeDocument/2006/relationships/hyperlink" Target="http://www.docteurw.com/" TargetMode="External"/><Relationship Id="rId3" Type="http://schemas.openxmlformats.org/officeDocument/2006/relationships/hyperlink" Target="http://www.docteurw.com/" TargetMode="External"/><Relationship Id="rId4" Type="http://schemas.openxmlformats.org/officeDocument/2006/relationships/hyperlink" Target="http://www.docteurw.com/" TargetMode="External"/><Relationship Id="rId5" Type="http://schemas.openxmlformats.org/officeDocument/2006/relationships/hyperlink" Target="http://www.docteurw.com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esureware.net/" TargetMode="External"/><Relationship Id="rId2" Type="http://schemas.openxmlformats.org/officeDocument/2006/relationships/hyperlink" Target="http://www.mesureware.net/" TargetMode="External"/><Relationship Id="rId3" Type="http://schemas.openxmlformats.org/officeDocument/2006/relationships/hyperlink" Target="http://www.mesureware.net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edia.ch/medcalc/fr/index.html" TargetMode="External"/><Relationship Id="rId2" Type="http://schemas.openxmlformats.org/officeDocument/2006/relationships/hyperlink" Target="http://www.media.ch/medcalc/fr/index.html" TargetMode="External"/><Relationship Id="rId3" Type="http://schemas.openxmlformats.org/officeDocument/2006/relationships/hyperlink" Target="http://www.media.ch/medcalc/fr/index.html" TargetMode="External"/><Relationship Id="rId4" Type="http://schemas.openxmlformats.org/officeDocument/2006/relationships/hyperlink" Target="http://www.media.ch/medcalc/fr/index.html" TargetMode="External"/><Relationship Id="rId5" Type="http://schemas.openxmlformats.org/officeDocument/2006/relationships/hyperlink" Target="http://www.media.ch/medcalc/fr/index.html" TargetMode="External"/><Relationship Id="rId6" Type="http://schemas.openxmlformats.org/officeDocument/2006/relationships/hyperlink" Target="http://www.media.ch/medcalc/fr/index.html" TargetMode="External"/><Relationship Id="rId7" Type="http://schemas.openxmlformats.org/officeDocument/2006/relationships/hyperlink" Target="http://www.media.ch/medcalc/fr/index.html" TargetMode="External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asef.com/freewares/medimento.htm" TargetMode="External"/><Relationship Id="rId2" Type="http://schemas.openxmlformats.org/officeDocument/2006/relationships/hyperlink" Target="http://www.masef.com/freewares/medimento.htm" TargetMode="External"/><Relationship Id="rId3" Type="http://schemas.openxmlformats.org/officeDocument/2006/relationships/hyperlink" Target="http://www.masef.com/freewares/medimento.htm" TargetMode="External"/><Relationship Id="rId4" Type="http://schemas.openxmlformats.org/officeDocument/2006/relationships/hyperlink" Target="http://www.masef.com/freewares/medimento.htm" TargetMode="External"/><Relationship Id="rId5" Type="http://schemas.openxmlformats.org/officeDocument/2006/relationships/hyperlink" Target="http://www.masef.com/freewares/medimento.htm" TargetMode="External"/><Relationship Id="rId6" Type="http://schemas.openxmlformats.org/officeDocument/2006/relationships/hyperlink" Target="http://www.masef.com/freewares/medimento.htm" TargetMode="External"/><Relationship Id="rId7" Type="http://schemas.openxmlformats.org/officeDocument/2006/relationships/hyperlink" Target="http://www.masef.com/freewares/medimento.htm" TargetMode="External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landzone.free.fr/" TargetMode="External"/><Relationship Id="rId2" Type="http://schemas.openxmlformats.org/officeDocument/2006/relationships/hyperlink" Target="http://landzone.free.fr/" TargetMode="External"/><Relationship Id="rId3" Type="http://schemas.openxmlformats.org/officeDocument/2006/relationships/hyperlink" Target="http://landzone.free.fr/" TargetMode="External"/><Relationship Id="rId4" Type="http://schemas.openxmlformats.org/officeDocument/2006/relationships/hyperlink" Target="http://landzone.free.fr/" TargetMode="External"/><Relationship Id="rId5" Type="http://schemas.openxmlformats.org/officeDocument/2006/relationships/hyperlink" Target="http://landzone.free.fr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iginfo.free.fr/" TargetMode="External"/><Relationship Id="rId2" Type="http://schemas.openxmlformats.org/officeDocument/2006/relationships/hyperlink" Target="http://ciginfo.free.fr/" TargetMode="External"/><Relationship Id="rId3" Type="http://schemas.openxmlformats.org/officeDocument/2006/relationships/hyperlink" Target="http://ciginfo.free.fr/" TargetMode="External"/><Relationship Id="rId4" Type="http://schemas.openxmlformats.org/officeDocument/2006/relationships/hyperlink" Target="http://ciginfo.free.fr/" TargetMode="External"/><Relationship Id="rId5" Type="http://schemas.openxmlformats.org/officeDocument/2006/relationships/hyperlink" Target="http://ciginfo.free.fr/" TargetMode="External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erso.wanadoo.fr/dominique.lang/outilsgeriatriques.html" TargetMode="External"/><Relationship Id="rId2" Type="http://schemas.openxmlformats.org/officeDocument/2006/relationships/hyperlink" Target="http://perso.wanadoo.fr/dominique.lang/outilsgeriatriques.html" TargetMode="External"/><Relationship Id="rId3" Type="http://schemas.openxmlformats.org/officeDocument/2006/relationships/hyperlink" Target="http://perso.wanadoo.fr/dominique.lang/outilsgeriatriques.html" TargetMode="External"/><Relationship Id="rId4" Type="http://schemas.openxmlformats.org/officeDocument/2006/relationships/hyperlink" Target="http://perso.wanadoo.fr/dominique.lang/outilsgeriatriques.html" TargetMode="External"/><Relationship Id="rId5" Type="http://schemas.openxmlformats.org/officeDocument/2006/relationships/hyperlink" Target="http://perso.wanadoo.fr/dominique.lang/outilsgeriatriques.html" TargetMode="External"/><Relationship Id="rId6" Type="http://schemas.openxmlformats.org/officeDocument/2006/relationships/hyperlink" Target="http://perso.wanadoo.fr/dominique.lang/outilsgeriatriques.html" TargetMode="External"/><Relationship Id="rId7" Type="http://schemas.openxmlformats.org/officeDocument/2006/relationships/hyperlink" Target="http://perso.wanadoo.fr/dominique.lang/outilsgeriatriques.html" TargetMode="External"/><Relationship Id="rId8" Type="http://schemas.openxmlformats.org/officeDocument/2006/relationships/hyperlink" Target="http://perso.wanadoo.fr/dominique.lang/outilsgeriatriques.html" TargetMode="External"/><Relationship Id="rId9" Type="http://schemas.openxmlformats.org/officeDocument/2006/relationships/hyperlink" Target="http://perso.wanadoo.fr/dominique.lang/outilsgeriatriques.html" TargetMode="External"/><Relationship Id="rId10" Type="http://schemas.openxmlformats.org/officeDocument/2006/relationships/hyperlink" Target="http://perso.wanadoo.fr/dominique.lang/outilsgeriatriques.html" TargetMode="External"/><Relationship Id="rId11" Type="http://schemas.openxmlformats.org/officeDocument/2006/relationships/hyperlink" Target="http://perso.wanadoo.fr/dominique.lang/outilsgeriatriques.html" TargetMode="External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erso.wanadoo.fr/phourdin" TargetMode="External"/><Relationship Id="rId2" Type="http://schemas.openxmlformats.org/officeDocument/2006/relationships/hyperlink" Target="http://perso.wanadoo.fr/phourdin" TargetMode="External"/><Relationship Id="rId3" Type="http://schemas.openxmlformats.org/officeDocument/2006/relationships/hyperlink" Target="http://perso.wanadoo.fr/phourdin" TargetMode="External"/><Relationship Id="rId4" Type="http://schemas.openxmlformats.org/officeDocument/2006/relationships/hyperlink" Target="http://perso.wanadoo.fr/phourdin" TargetMode="External"/><Relationship Id="rId5" Type="http://schemas.openxmlformats.org/officeDocument/2006/relationships/hyperlink" Target="http://perso.wanadoo.fr/phourdin" TargetMode="External"/><Relationship Id="rId6" Type="http://schemas.openxmlformats.org/officeDocument/2006/relationships/hyperlink" Target="http://perso.wanadoo.fr/phourdin" TargetMode="External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landzone.free.fr/" TargetMode="External"/><Relationship Id="rId2" Type="http://schemas.openxmlformats.org/officeDocument/2006/relationships/hyperlink" Target="http://landzone.free.fr/" TargetMode="External"/><Relationship Id="rId3" Type="http://schemas.openxmlformats.org/officeDocument/2006/relationships/hyperlink" Target="http://landzone.free.fr/" TargetMode="External"/><Relationship Id="rId4" Type="http://schemas.openxmlformats.org/officeDocument/2006/relationships/hyperlink" Target="http://landzone.free.fr/" TargetMode="Externa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pplimed.free.fr/" TargetMode="External"/><Relationship Id="rId2" Type="http://schemas.openxmlformats.org/officeDocument/2006/relationships/hyperlink" Target="http://applimed.free.fr/" TargetMode="External"/><Relationship Id="rId3" Type="http://schemas.openxmlformats.org/officeDocument/2006/relationships/hyperlink" Target="http://applimed.free.fr/" TargetMode="External"/><Relationship Id="rId4" Type="http://schemas.openxmlformats.org/officeDocument/2006/relationships/hyperlink" Target="http://applimed.free.fr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sef.com/freewares3/dio.htm" TargetMode="External"/><Relationship Id="rId2" Type="http://schemas.openxmlformats.org/officeDocument/2006/relationships/hyperlink" Target="http://www.masef.com/freewares3/dio.htm" TargetMode="External"/><Relationship Id="rId3" Type="http://schemas.openxmlformats.org/officeDocument/2006/relationships/hyperlink" Target="http://www.masef.com/freewares3/dio.htm" TargetMode="External"/><Relationship Id="rId4" Type="http://schemas.openxmlformats.org/officeDocument/2006/relationships/hyperlink" Target="http://www.masef.com/freewares3/dio.htm" TargetMode="External"/><Relationship Id="rId5" Type="http://schemas.openxmlformats.org/officeDocument/2006/relationships/hyperlink" Target="http://www.masef.com/freewares3/dio.htm" TargetMode="External"/><Relationship Id="rId6" Type="http://schemas.openxmlformats.org/officeDocument/2006/relationships/hyperlink" Target="http://www.masef.com/freewares3/dio.htm" TargetMode="External"/><Relationship Id="rId7" Type="http://schemas.openxmlformats.org/officeDocument/2006/relationships/hyperlink" Target="http://www.masef.com/freewares3/dio.htm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3800" cy="15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Quelques free/sharewares utiles en médec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1120" y="2057040"/>
            <a:ext cx="4572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r Bernardin Géral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A la découverte de 10 logiciels utilisables au quotidien par le médecin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4" name="logomasef" descr=""/>
          <p:cNvPicPr/>
          <p:nvPr/>
        </p:nvPicPr>
        <p:blipFill>
          <a:blip r:embed="rId1"/>
          <a:stretch/>
        </p:blipFill>
        <p:spPr>
          <a:xfrm>
            <a:off x="7772400" y="1752480"/>
            <a:ext cx="965160" cy="12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C995-A377-4C85-8950-E2E5CB73912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884FE59-F52A-4361-89A9-3C73D3D9C8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Di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4" name="dio3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641016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41C-E94F-42B4-975D-2A118BA0B6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46A3E-8EB2-4E28-ACC2-2473E1A35064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Dr-W-Infla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Cet utilitaire contient une quarantaine de scores diagnostiques sur les maladies de systèm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docteurw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com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5"/>
              </a:rPr>
              <a:t>/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Wyeth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Gratui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Pocket PC - Pal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C77-B8BE-4041-B79B-43F3ED495CD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9AD72-892B-4ED4-BBFF-A0B024841501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Dr-W-Infla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9" name="drwinflam2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20" name="drwinflam4" descr=""/>
          <p:cNvPicPr/>
          <p:nvPr/>
        </p:nvPicPr>
        <p:blipFill>
          <a:blip r:embed="rId2"/>
          <a:stretch/>
        </p:blipFill>
        <p:spPr>
          <a:xfrm>
            <a:off x="5638680" y="198108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98E-5C8C-497F-8402-496FC2FCC5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3B828-6A5E-4410-8B2F-E7B05D977505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Gardia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Pour faire vos tours de gardes, que vous soyez libéral ou hospitalie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mesureware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.net/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r Mesuré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Gratui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Windows - Ma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FEF-7475-463F-960A-90636F33F4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5286F-D73D-4C19-BDE5-2509CB86BF3E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Gardia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5" name="gardian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7476840" cy="527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01D-F2FC-4329-B87E-FE5D661D503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FD5FE-82D6-41F8-8644-C4FA21B9DACE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MedCal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Plus de 80 formules et scores diagnostiqu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www.media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ch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/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medcalc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5"/>
              </a:rPr>
              <a:t>/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6"/>
              </a:rPr>
              <a:t>fr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7"/>
              </a:rPr>
              <a:t>/index.htm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r Tschopp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Gratui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Pal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422-F258-48C2-9BE1-28BE8366562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3AA72-2B0D-447D-94E5-3C5E91D16791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MedCal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0" name="medcalc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3076560" cy="3057480"/>
          </a:xfrm>
          <a:prstGeom prst="rect">
            <a:avLst/>
          </a:prstGeom>
          <a:ln w="0">
            <a:noFill/>
          </a:ln>
        </p:spPr>
      </p:pic>
      <p:pic>
        <p:nvPicPr>
          <p:cNvPr id="131" name="medcalc3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3057480" cy="302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D09-6313-44CD-B854-2D81D86E9D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E6C72-F329-4F93-A1AD-CACFF9E6D0D6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Mediment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Aide mémoire médical contenant 1000 tableaux étiologiques, diagnostiques ou différentiel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masef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com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5"/>
              </a:rPr>
              <a:t>/freewares/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6"/>
              </a:rPr>
              <a:t>medimento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7"/>
              </a:rPr>
              <a:t>.ht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r Bernardi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Gratui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Windows - Mac - Linux - Pocket PC - Pal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8E7-EBE7-4FC8-96BC-9ECE1470E9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9A10E-D397-40E7-AC09-0EC53754BD4A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Mediment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6" name="medimento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562880" cy="534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0E1-5253-4387-A158-5C7A767C5B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15D44-9993-4CC6-9E8C-E5F5194A1085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MemDocPr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Véritable boite à outils médicale contenant des dizaines de rappels, scores et calculs diver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landzone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.free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fr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5"/>
              </a:rPr>
              <a:t>/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r Remblai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30 euro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791-9070-4EF1-B2AA-D7142239EF3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D947F-E5CA-483C-BD2F-226C5CE3DC49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76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Est-ce raisonnable de travailler avec des logiciels gratuits?</a:t>
            </a:r>
            <a:br>
              <a:rPr sz="2400"/>
            </a:b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Quels avantages?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Quels inconvénients?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Lesquels choisir?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Où les trouver?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9AB-7EBB-4F1E-8A96-0D758EC676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D9FD0-E097-48AF-A36B-836F0C41FDC1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MemDocPr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1" name="memdocpro2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540072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618-013E-426C-AA6A-DF624F4EE0E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678A0-9D83-4A88-BB26-CA81C85B04AA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MemObs-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Logiciel indispensable au gynéco-obstétriciens pour le suivi des grossess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ciginfo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.free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fr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5"/>
              </a:rPr>
              <a:t>/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r Delanou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Windows - Pocket P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E96-80EF-4965-887F-1E89EE87BD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C689F-6685-4B8D-B4D9-6BBC8361AFEE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MemObs-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6" name="memobs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465768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643-2AB2-465B-8072-0AC8EBB421C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0AAF7-0EBB-4E0F-A052-216452F95BCE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Suite gériatriq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Scores et tests diagnostiques utilisés en gériatri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perso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wanadoo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fr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5"/>
              </a:rPr>
              <a:t>/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6"/>
              </a:rPr>
              <a:t>dominique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7"/>
              </a:rPr>
              <a:t>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8"/>
              </a:rPr>
              <a:t>lang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9"/>
              </a:rPr>
              <a:t>/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10"/>
              </a:rPr>
              <a:t>outilsgeriatriques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11"/>
              </a:rPr>
              <a:t>.htm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r La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Gratui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Ma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DAE-529E-4109-A416-3B73AE5A753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0FD1E-AADB-4141-A176-4224D1EAF5E6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Suite Gériatriq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1" name="suitegeriatrique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5638680" cy="38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97B-D879-4F39-808D-4A7A7B0E634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7ECF0-C75C-4807-AEEA-EFB67A103CFA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Visit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Pour gérer les visiteurs médicaux (rendez-vous, médicaments présentés...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perso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wanadoo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fr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5"/>
              </a:rPr>
              <a:t>/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6"/>
              </a:rPr>
              <a:t>phourdi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r Hourdi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Gratui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60D-CF79-4D69-96A0-2B55D5F71FF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1F23F-71BC-4273-8E3C-3C7B540148C4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Visit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6" name="visitemed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E21-4A2F-4B20-A91E-7472D7ECEAF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8DB37-F0B3-4E69-88F5-97234FDE639E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Où les trouver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Les sites de quelques auteurs prolifique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Dr Agenor: http://www.patrickagenor.net/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Dr Aigron: http://www.ophtajpa.com/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Dr Delanoue: http://ciginfo.free.fr/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Dr Hourdin: http://perso.wanadoo.fr/phourdin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Dr Remblain: </a:t>
            </a:r>
            <a:r>
              <a:rPr b="0" lang="fr-FR" sz="16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fr-FR" sz="16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landzone</a:t>
            </a:r>
            <a:r>
              <a:rPr b="0" lang="fr-FR" sz="16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.free.</a:t>
            </a:r>
            <a:r>
              <a:rPr b="0" lang="fr-FR" sz="16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fr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Les « recenseurs »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Dr Bernardin: http://www.masef.com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Dr Louvet: http://www.helloduck.com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Dr Mennecier: http://www.pdadumedecin.com/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Dr Perrin: http://www.medsyn.fr/perso/g.perrin/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Dr raffin: http://www.smart-doc.org/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9966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0" lang="fr-FR" sz="1600" spc="-1" strike="noStrike">
                <a:solidFill>
                  <a:srgbClr val="009999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EB6-0553-4E31-BEAD-4AC7F7AD60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86051-0EE9-41F9-9AE8-06A4BF0D1E87}" type="datetime1">
              <a:rPr lang="en-US"/>
              <a:t>07/29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Conclus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Richesse des utilitaires répondant à de multiples besoi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Bonne fiabilité grâce aux outils de développement actue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Et l’open source dans tout ça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25A-3644-4EB0-839B-373CBBB9B30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F3207-4966-4FFB-A71D-70D950B19917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Avant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Prix nul ou très faib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Correspondance aux besoi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Réactivité de l’auteu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Participation de l’utilisateur au développemen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Comble les lacunes des logiciels métier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111-734D-4C50-8DE9-F53014C90D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C6504-FAD5-487A-9C10-011E6987A636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76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Inconvénien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Pérennité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Bugs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Qualité de développement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1D1-ACA6-4A9E-B71E-322627E227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9F49E-AAFC-4784-BDC0-43F0A77E003B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76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Quelles motivations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Réponse à leurs propres besoi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Par goût, curiosité, désir de création, défi intellectu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Plaisir de partag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Plus grande diffu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Satisfaction non financiè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939-6D0E-4EB9-80B9-B3CE552C19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8ACF8-6256-4607-90F7-E67518508C3E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76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Tour d’horiz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Une dizaine seulemen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ifférentes plate-form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ifférents besoi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758-C643-4884-9B21-3CA9EE67F6C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C54BE-650C-4900-ACAC-5D74E17ED95F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76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Appli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Gestion des fiches pati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Edition des ordonnances et des courrier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Comptabilité recettes-dépense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applimed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.free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f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r Elziè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20 euro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DBF-987E-4299-8443-036B405129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807BE-41A3-4421-A9DA-239B155E96CA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Appli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9" name="applimed" descr=""/>
          <p:cNvPicPr/>
          <p:nvPr/>
        </p:nvPicPr>
        <p:blipFill>
          <a:blip r:embed="rId1"/>
          <a:stretch/>
        </p:blipFill>
        <p:spPr>
          <a:xfrm>
            <a:off x="228600" y="136440"/>
            <a:ext cx="8709120" cy="672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65A-44C8-4C02-B069-E55D73B219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4D095-1535-4556-946B-6C5BDC8D42A6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f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01520" y="457200"/>
            <a:ext cx="609588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Di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Logiciel de dépistage individuel organisé du cancer en fonction des facteurs de risque d'un individu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masef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.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com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5"/>
              </a:rPr>
              <a:t>/freewares3/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6"/>
              </a:rPr>
              <a:t>dio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7"/>
              </a:rPr>
              <a:t>.ht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r Remblai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8CC-2FB7-421A-A018-088F1B2F513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18710-63A0-476B-9A36-07A0323711A3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nardin</cp:lastModifiedBy>
  <dcterms:modified xsi:type="dcterms:W3CDTF">2006-03-14T19:56:22Z</dcterms:modified>
  <cp:revision>85</cp:revision>
  <dc:subject/>
  <dc:title>Présentation PowerPoint</dc:title>
</cp:coreProperties>
</file>